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A420-05EC-43C5-ADA8-C844ACEB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89FC-8EFA-47B7-A735-067C070D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7525-5B4F-4FC1-A666-9A6AF7B8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7DB8-5F34-4494-92CD-D8E583CB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6E25-A23F-44B3-B6D6-5756391B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2EC4-39D3-438F-BD5B-882A66A8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6B47-16B6-4800-A965-FAE985EC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8317-BDB1-4BD2-AF8D-DA26722D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1A0F-FE1B-4467-B373-974A5C39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5AC5-2F4D-4A7D-963B-007F833B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6BE7-BAF5-46FB-AE0B-3591C35B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A8ED-8776-4136-A875-ADCD4672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9D43-AB37-4D6A-B806-30541F12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4965-92EB-4308-B91E-D0DC796F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61A1-46EC-4107-B5AA-67555A46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ACA0-A0D4-41D8-994F-ACD31FF8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5AD2-4259-4C02-ACA3-8430B30E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FAB4-DE62-4610-97C4-99266E4F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C5E3-95AD-47F3-AF83-63A89A6B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4B50-0F40-4A1C-BF9C-C79BFD2C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930A-430B-4E41-BC4F-750E0F48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599A-9834-4775-B133-3206916D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8619-335D-4B2F-9591-8B1EB4F2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6BDD-2543-4268-900D-4ABE11A5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ECEB-383F-4B40-BC5F-F31C40B30029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E8BB-5E80-4CBF-B153-1E47A7B5CEF6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user/My%20Documents/Teaching%20wrokshop%20research%20Al%20Bayan/Al%20Bayan%20research%20Gantt.doc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5000"/>
            </a:b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rt I: The Nature of Research: Learning from other people’s resear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orkshop 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earch               Structure of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cess                  the resear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b6b75"/>
                </a:solidFill>
                <a:latin typeface="Arial"/>
              </a:rPr>
              <a:t>Data collection: desk research for secondary da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b6b75"/>
                </a:solidFill>
                <a:latin typeface="Arial"/>
              </a:rPr>
              <a:t>Data collection: surveys/interviews for primary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b6b75"/>
                </a:solidFill>
                <a:latin typeface="Arial"/>
              </a:rPr>
              <a:t>Design questionna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Categorizing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Analyzing/interpreting data (E.g. SPSS programm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enting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earch wri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b6b75"/>
                </a:solidFill>
                <a:latin typeface="Arial"/>
              </a:rPr>
              <a:t>Findings (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Discussion (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 (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erences (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bliography (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ading a research paper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ifferent broad way to classify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d vs. Ba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ucture of the research pap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itical review of the  research pap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 you remember types of research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 some types of resear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 some methods of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ature of qualitative and quantit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fferent way to classify research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urali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 Ethnographic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ood vs. Bad research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researches ai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xpand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vestigate a new knowledg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Replication research: validate (maybe i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scale) or in different circum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Adaptation research: validate or invalidate prev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ood vs. Bad research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d resear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 knowledge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just a re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ucture of the research paper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tle (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stract (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nt (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 (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terature review (Record keeping) (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hodology (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ings (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ion (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ucture of the research paper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lusion (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ences (1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bliography (1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earch               Structure of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cess                  the resear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cc00"/>
                </a:solidFill>
                <a:latin typeface="Arial"/>
              </a:rPr>
              <a:t>Topic/iss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cc00"/>
                </a:solidFill>
                <a:latin typeface="Arial"/>
              </a:rPr>
              <a:t>Research question/statements/assumption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e9ce8"/>
                </a:solidFill>
                <a:latin typeface="Arial"/>
              </a:rPr>
              <a:t>Conceptual frame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acad1"/>
                </a:solidFill>
                <a:latin typeface="Arial"/>
              </a:rPr>
              <a:t>Methodolog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frame (E.g. 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Gant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Title (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(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nt (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tion (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Literature review (Record keeping)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cad1"/>
                </a:solidFill>
                <a:latin typeface="Arial"/>
              </a:rPr>
              <a:t>Methodology (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6:26:51Z</dcterms:created>
  <dc:creator>user</dc:creator>
  <dc:description/>
  <dc:language>en-US</dc:language>
  <cp:lastModifiedBy>Lorenza Innocenti</cp:lastModifiedBy>
  <dcterms:modified xsi:type="dcterms:W3CDTF">2008-05-25T08:02:06Z</dcterms:modified>
  <cp:revision>11</cp:revision>
  <dc:subject/>
  <dc:title>Course: Fundamentals of Research</dc:title>
</cp:coreProperties>
</file>